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29F-6CE8-4218-9688-35AB445E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261-B891-42B5-902A-EB49527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571-F339-40FC-8E73-488EE392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A3E-C3C1-4244-A6A1-0E7E3D7F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85A-80A7-4D40-BE02-3A782C8A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FB3-DE05-4802-94E4-0B49897E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812-3CE3-40FF-AC23-2301BC9C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FFC-36D4-450C-A4BD-F9A0C38B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888-BDA0-4101-87ED-E1CFDA8B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722-C210-48D4-BA86-52724714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D48-8AD0-4B4A-AD5A-0E7F443A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210-D04E-4430-A89E-3B945F96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B3700-3A46-41DE-ACDF-3AE26854D0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 and CM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 towards CMap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MAE - CMap Assembly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 F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12720" y="1690560"/>
            <a:ext cx="707580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lighted Features in CMap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8000" y="218772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t plot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t map gly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igurable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twork install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t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271520"/>
            <a:ext cx="4559400" cy="535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10552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t Map Feature Gly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91040" y="1589040"/>
            <a:ext cx="162540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h to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up Chado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MWare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E – CMap Assembly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742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